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942-ADE0-41C4-9399-C26271A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6A0-0C57-46FB-9C76-1A082E2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528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BA2-881D-44AB-B263-968AFB46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536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492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536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492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A3A-3ABC-4F2C-98A4-D7FCD7F1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F33-2D15-48A8-A930-B6D3DEDF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8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1FA-D394-486D-9B40-FD059B4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8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CAD-C74A-444C-B1CC-543B1E4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BF4B-75C1-47DB-9F1D-302011E3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224E-7E32-4875-BA6F-9968343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9280"/>
            <a:ext cx="6862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082B-F8CE-4F05-9113-F45CCDD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498C-CA22-465F-A61D-628C600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88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BFE-F1C2-48B0-A78E-DEE25A0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528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B1A0-52F6-4F78-ADFC-C7EC335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E26-35F9-4B99-962C-A6690AD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BF81-34AF-41ED-8F0F-0D8F543B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528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A967-D433-49A3-B5FF-15254441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536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4920" y="182844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536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4920" y="4039920"/>
            <a:ext cx="2475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D181-9277-4A54-838E-0D6D62EA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8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3B9-E5C3-436F-B230-9CB743C0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4EC-9CFF-41AE-A01B-ADB826D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0BA-8CC6-4407-9BE3-F534970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9280"/>
            <a:ext cx="6862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50D-5884-471D-B450-48E17095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EB8-1608-4EC4-B52A-234FE45F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5280" y="403992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0A9-272A-4063-8CD4-4CC6206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5280" y="1828440"/>
            <a:ext cx="3751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88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ADE-E562-40FD-8750-9F9D476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9280"/>
            <a:ext cx="6862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88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9476-A565-4C98-9D7C-2AE6F721E057}" type="slidenum"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58800" y="2736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496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4720" y="-86400"/>
            <a:ext cx="2428200" cy="2245320"/>
            <a:chOff x="7164720" y="-86400"/>
            <a:chExt cx="2428200" cy="2245320"/>
          </a:xfrm>
        </p:grpSpPr>
        <p:grpSp>
          <p:nvGrpSpPr>
            <p:cNvPr id="39" name=""/>
            <p:cNvGrpSpPr/>
            <p:nvPr/>
          </p:nvGrpSpPr>
          <p:grpSpPr>
            <a:xfrm>
              <a:off x="7164720" y="-86400"/>
              <a:ext cx="2428200" cy="2245320"/>
              <a:chOff x="7164720" y="-86400"/>
              <a:chExt cx="2428200" cy="224532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696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4720" y="-86400"/>
                <a:ext cx="2428200" cy="2245320"/>
                <a:chOff x="7164720" y="-86400"/>
                <a:chExt cx="2428200" cy="224532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883640" y="11844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8006040" y="53388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712640" y="297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777080" y="-30240"/>
                  <a:ext cx="1203480" cy="21337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408160" y="143064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331840" y="129132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905600" y="34560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847280" y="2358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9288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F865E5-0F1C-4F87-9F4F-19B7BD5B558B}" type="slidenum">
              <a:rPr b="0" lang="ru-RU" sz="14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813440" y="4318560"/>
            <a:ext cx="979920" cy="1159560"/>
            <a:chOff x="781344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800840" y="46526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7564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43760" y="463104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813440" y="4318560"/>
              <a:ext cx="979920" cy="1159560"/>
              <a:chOff x="781344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32240" y="507168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7384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8440" y="47559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22280" y="456912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61560" y="47538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Числовые неравенства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27320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27160"/>
            <a:ext cx="6870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ешение числовых неравенств по их свойствам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, 3&lt;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, 3&gt;2, то 5&gt;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, то 5+2&gt;3+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 и 2&gt;1, то 5+2&gt;3+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 и 2&lt;4, то 5-2&gt;3-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 &gt;3, 3&gt;0 и 2&gt;1, 1&gt;0, то 5*2&gt;3*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5&gt;3, 3&gt;0 и 2&lt;4, 4&gt;0, то 5/2&gt;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3/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827280"/>
            <a:ext cx="68691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бота выполнена ученицей 8 «А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аракановой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Елен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(идентификатор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 № 221-608-160)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уководитель:  учитель математик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Фураева Людмила Ивановн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(идентификатор № 102-289-772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ГОУ СОШ № 556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г.Санкт — Петербург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урортный рай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82440"/>
            <a:ext cx="6870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1.Появление символики неравенст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847280" cy="44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Понятия «больше» и «меньше» наряду с понятием равенства возникли в связи со счетом предметов и необходимостью сравнивать различные величины. Понятиями неравенства пользовались уже древние греки. Архимед (III в. до н. э.), занимаясь вычислением длины окружности, установил, что «периметр всякого круга равен утроенному диаметру с избытком, который меньше седьмой части диаметра, но больше десяти семьдесят первых». Иначе говоря, Архимед указал границы числа 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Ряд неравенств приводит в своем знаменитом трактате «Начала» Евклид. Он, например, доказывает, что среднее геометрическое двух положительных чисел не больше их среднего арифметического и не меньше их среднего гармонического, 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В «Математическом собрании» Папы Александрийского (III в.) оказывается, что если bacd ( 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a, b, c. d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- положительные числа), то adbc. 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Однако все эти рассуждения проводили словесно, опираясь в большинстве случаев на геометрическую терминологию. Современные знаки неравенств появились лишь в XVII— XVIII вв. Знаки &lt; и &gt; ввел английский математик Т. Гарриот (1560—1621), знаки ? и ? французский математик П. Бугер (1698—1758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2570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Томас Гарриот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13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Неравенства и системы неравенств широко используются как в теоретических исследованиях, так и при решении важных практических задач.</a:t>
            </a:r>
            <a:br>
              <a:rPr sz="1400"/>
            </a:b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Первым алгебраистом XVII века был воспитанник Оксфордовского университета Томас Гарриот (1560-1621), составитель ценного описания и карты исследованной им части Северной Америки, ныне именуемой Северной Каролиной (1586); карты Луны, которую он наблюдал через зрительную трубу в одно время с Галилеем, и, наконец, труда «Применение аналитического искусства к решению алгебраических уравнений», изданного через 10 лет после смерти автора в Лондоне в 1631 году. В этом сочинении, во многом примыкающем к алгебраическим трудам Виета, Гарриот поставил себе задачей изложить «аналитическое искусство» своего предшественника легче и проще для понимания и применения.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Этого он во многом достиг, усовершенствовав символику. Вместо прописных букв для известных и неизвестных величин он применил строчные, а их целые положительные степени стал обозначать, как иногда поступал ранее М. Штифель (1486-1567), записывая соответственно число раз подряд основанию. Виет писал рядом с буквой полное или сокращенное наименование степени или размерности величины. Так как Гарриот пользовался к тому же знаками равенства Р. Рекорда (1510-1558), его запись довольно похожа на современную.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Например, уравнение (один из корней которого есть 2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) aaa−3baa+3bba=+2bbb соответствует нашему 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3- 3 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bx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2+ 3 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x 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= 2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3. Точка здесь служит для отделения числового коэффициента, а не знаком умножения, как это предложил Г.В. Лейбниц (1646-1716) в конце 17 века. </a:t>
            </a:r>
            <a:br>
              <a:rPr sz="1400"/>
            </a:br>
            <a:r>
              <a:rPr b="1" i="1" lang="ru-RU" sz="1400" spc="-1" strike="noStrike">
                <a:solidFill>
                  <a:srgbClr val="ffffff"/>
                </a:solidFill>
                <a:latin typeface="Comic Sans MS"/>
              </a:rPr>
              <a:t>Между прочим, подобного рода запись, в которой свободный член стоит один в какой-либо части уравнения, Гарриот называл каноническим уравнением. Новыми полезными знаками Гарриота явились &gt; и &lt; для отношений «больше» и «меньше», он их употребил при рассмотрении вопроса о наличии у кубического уравнения положительных корней. Вывод соответствующих условий, предложенный Гарриотом, заслужил впоследствии высокую оценку Ж.Л. Лагранжа (1736-1813), но по существу эти условия имелись еще у Виета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0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899987611771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Пьер Бугер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В 1746 г. происходит не менее важное событие - издается капитальный труд французского ученого, одного из основателей фотометрии, Пьера Бугера (1698-1758 гг.) “Трактат о корабле, о его конструкции и о его движении”, который принято считать первым учебником по теории корабля, поэтому эту книгу часто называют просто “Теорией корабля”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В сочинении разрабатываются основы строгого учения о плавучести и остойчивости корабля, его измерения, обосновывается понятие метацентра и его радиуса, плеча восстанавливающего момента, рассматриваются многие другие вопросы мореходных качеств судна, проблемы обеспечения прочности корпуса. Самое интересное, что Бугер сознавал в целом недостаточную теоретическую подготовленность судостроителей того времени, поэтому его книга написана простым языком и не загромождена сложными математическими выкладками, что сделало ее на долгие годы учебником для кораблестроителей не только Франции, но и многих других стран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Числовые неравенства и их применения в жизни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равнение чисел широко применяется на практике. Например, экономист сравнивает плановые показатели с фактическими, врач сравнивает температуру больного с нормальной, токарь сравнивает размеры вытачиваемой детали с эталоном. Во всех таких случаях сравниваются некоторые числа. В результате сравнения чисел возникают числовые неравенств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16560" cy="3913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4005360"/>
            <a:ext cx="8459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т например на этой картинке мы видим, что сравнивается успеваемость в классах за 2006-2007 и 2007-2008г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зьмем итоги по 8 классу. В 2006-2007 годах % успеваемости был равен 19%, а в 2007-2008 годах 30%                из 19% - 30%= -11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.к. 19-3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0, то 19%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3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5013360"/>
            <a:ext cx="792000" cy="287280"/>
          </a:xfrm>
          <a:custGeom>
            <a:avLst/>
            <a:gdLst>
              <a:gd name="textAreaLeft" fmla="*/ 99000 w 792000"/>
              <a:gd name="textAreaRight" fmla="*/ 693000 w 79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Определение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Число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больше числа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,если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-b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оложительна. Число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меньше числа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,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если разность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-b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отрицательна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&gt;b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значает, что разность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-b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ложительна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a-b&gt;0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равенство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&lt;b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значает, что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-b&lt;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852640"/>
            <a:ext cx="647640" cy="270000"/>
          </a:xfrm>
          <a:custGeom>
            <a:avLst/>
            <a:gdLst>
              <a:gd name="textAreaLeft" fmla="*/ 81000 w 647640"/>
              <a:gd name="textAreaRight" fmla="*/ 567000 w 64764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3789360"/>
            <a:ext cx="792000" cy="287280"/>
          </a:xfrm>
          <a:custGeom>
            <a:avLst/>
            <a:gdLst>
              <a:gd name="textAreaLeft" fmla="*/ 99000 w 792000"/>
              <a:gd name="textAreaRight" fmla="*/ 693000 w 792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0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449280"/>
            <a:ext cx="68673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Решение числовых неравенст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076640"/>
            <a:ext cx="381636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4005360"/>
            <a:ext cx="142920" cy="144360"/>
          </a:xfrm>
          <a:prstGeom prst="flowChartConnector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4005360"/>
            <a:ext cx="142920" cy="144360"/>
          </a:xfrm>
          <a:prstGeom prst="flowChartConnector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755360"/>
            <a:ext cx="7693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4800" indent="-3348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равним числа 0,79 и 0,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.Найдем их разность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0,79-0,8= -0,0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ак как 0,79-0,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0, то 0,7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0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79       0,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геометрически неравенство 0,7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0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значает, что на числовой оси точка 0,8 лежи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авее точки 0,79 , так как 0,7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&lt;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0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0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Свойства числовых неравенст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a &gt; b, тогда b &lt; a. Верно и обратное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a &gt; b и b &gt; c, то a &gt; c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a &gt; b, то для любого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 c a+c&gt;b+c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Верно и обратное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a &gt; b и c &gt; d, то a + c &gt; b + d. (Возможность почленного сложения неравенств одинакового смысла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a &gt; b и c &lt; d, то a − c &gt; b − d. (Возможность почленного вычитания неравенств разного смысла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&gt;b, b&gt;=0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и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&gt;d, d&gt;=0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 , то ac &gt; bd (Возможность почленного умножения неравенств одинакового смысла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-601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Если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&gt;b, b&gt;=0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и 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&lt;d, d&gt;0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,то a / c &gt; b / d. (Возможность почленного деления неравенств разного смысла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601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dur="indefinite" fill="hold">
                      <p:stCondLst>
                        <p:cond delay="0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1:14:03Z</dcterms:created>
  <dc:creator>XTreme</dc:creator>
  <dc:description/>
  <dc:language>en-US</dc:language>
  <cp:lastModifiedBy>Мама</cp:lastModifiedBy>
  <dcterms:modified xsi:type="dcterms:W3CDTF">2006-01-01T00:05:39Z</dcterms:modified>
  <cp:revision>8</cp:revision>
  <dc:subject/>
  <dc:title>Числовые неравенства.</dc:title>
</cp:coreProperties>
</file>